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d5d5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4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5"/>
          </p:nvPr>
        </p:nvSpPr>
        <p:spPr>
          <a:xfrm>
            <a:off x="388584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4901-51B2-4FF7-8630-4DED2DB6B3A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CBFB-49B3-4536-8A77-AC568F251C27}" type="slidenum">
              <a:rPr b="0" lang="de-DE" sz="1200" spc="-1" strike="noStrike">
                <a:solidFill>
                  <a:srgbClr val="56565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693F-BB28-4903-BAEC-6907DD3C9548}" type="slidenum">
              <a:rPr b="0" lang="de-DE" sz="1200" spc="-1" strike="noStrike">
                <a:solidFill>
                  <a:srgbClr val="56565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oliennummernplatzhalter 3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AF5D-13A7-4477-9E30-E09744163174}" type="slidenum">
              <a:rPr b="0" lang="de-DE" sz="1200" spc="-1" strike="noStrike">
                <a:solidFill>
                  <a:srgbClr val="56565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rankheitsbedingte Verhaltensänderungen (früher geübte Arten der Konfliktbewältigung stehen nicht mehr zur Verfügung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liennummernplatzhalter 3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6FE3-47A6-430E-9DBF-66F391336960}" type="slidenum">
              <a:rPr b="0" lang="de-DE" sz="1200" spc="-1" strike="noStrike">
                <a:solidFill>
                  <a:srgbClr val="56565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5FC32-D5C9-4E66-8FEF-511DE4ACDA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9252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7AC83-036A-49D5-83EC-185A42B9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9252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9252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3BB5C-8E0A-4D29-9684-0111B9B9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9252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9252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9252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9EB35-EFC2-4A36-AE02-642EBEF9AB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1FA7E9-1FA5-417B-ACCB-7746D31D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02146-790E-4F70-A9FB-E05FB394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8AE6C-A304-407F-A6A0-3E497CC6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818E4-4FB0-426F-9E2B-FB2D91D2F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51C30-EE72-40F0-AED0-B85C5D996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9252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6A7AF-E121-48CC-92A0-499FD290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9252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45A15-B7BD-4739-8928-BE95C8FD6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9252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B2D10-7AD4-4538-8EF4-31FC9CC1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65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65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656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656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656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" name="Rectangle 29"/>
          <p:cNvSpPr/>
          <p:nvPr/>
        </p:nvSpPr>
        <p:spPr>
          <a:xfrm>
            <a:off x="7696080" y="0"/>
            <a:ext cx="685800" cy="685800"/>
          </a:xfrm>
          <a:prstGeom prst="rect">
            <a:avLst/>
          </a:prstGeom>
          <a:solidFill>
            <a:srgbClr val="f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" name="Rectangle 31"/>
          <p:cNvSpPr/>
          <p:nvPr/>
        </p:nvSpPr>
        <p:spPr>
          <a:xfrm>
            <a:off x="8458200" y="0"/>
            <a:ext cx="685800" cy="685800"/>
          </a:xfrm>
          <a:prstGeom prst="rect">
            <a:avLst/>
          </a:prstGeom>
          <a:solidFill>
            <a:srgbClr val="0067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" name="Rectangle 3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019920" y="655272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7848720" y="6552720"/>
            <a:ext cx="12189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9A85-F229-47F0-9EC7-1B1C5D17DF0B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38" descr="typo-Alter-1-1"/>
          <p:cNvPicPr/>
          <p:nvPr/>
        </p:nvPicPr>
        <p:blipFill>
          <a:blip r:embed="rId2"/>
          <a:stretch/>
        </p:blipFill>
        <p:spPr>
          <a:xfrm>
            <a:off x="5486400" y="304920"/>
            <a:ext cx="2057400" cy="279360"/>
          </a:xfrm>
          <a:prstGeom prst="rect">
            <a:avLst/>
          </a:prstGeom>
          <a:ln w="0">
            <a:noFill/>
          </a:ln>
        </p:spPr>
      </p:pic>
      <p:sp>
        <p:nvSpPr>
          <p:cNvPr id="7" name="Text Box 40"/>
          <p:cNvSpPr/>
          <p:nvPr/>
        </p:nvSpPr>
        <p:spPr>
          <a:xfrm>
            <a:off x="152280" y="658332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08080"/>
                </a:solidFill>
                <a:latin typeface="Arial"/>
              </a:rPr>
              <a:t>Veranstaltung</a:t>
            </a:r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8" name="Text Box 41"/>
          <p:cNvSpPr/>
          <p:nvPr/>
        </p:nvSpPr>
        <p:spPr>
          <a:xfrm>
            <a:off x="3733920" y="658332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0808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9" name="Rectangle 43"/>
          <p:cNvSpPr/>
          <p:nvPr/>
        </p:nvSpPr>
        <p:spPr>
          <a:xfrm>
            <a:off x="0" y="685800"/>
            <a:ext cx="9144000" cy="5867280"/>
          </a:xfrm>
          <a:prstGeom prst="rect">
            <a:avLst/>
          </a:prstGeom>
          <a:solidFill>
            <a:srgbClr val="f0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next.uni-wuppertal.de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liennummernplatzhalter 3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4C9D-A762-47F0-A0AF-8626B506DC85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54" name="Rectangle 5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55" name="Text Box 52"/>
          <p:cNvSpPr/>
          <p:nvPr/>
        </p:nvSpPr>
        <p:spPr>
          <a:xfrm>
            <a:off x="2971800" y="57913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56" name="Rectangle 55"/>
          <p:cNvSpPr/>
          <p:nvPr/>
        </p:nvSpPr>
        <p:spPr>
          <a:xfrm>
            <a:off x="4800600" y="2133720"/>
            <a:ext cx="1828800" cy="1828800"/>
          </a:xfrm>
          <a:prstGeom prst="rect">
            <a:avLst/>
          </a:prstGeom>
          <a:solidFill>
            <a:srgbClr val="f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57" name="Picture 57" descr="frau-kopf"/>
          <p:cNvPicPr/>
          <p:nvPr/>
        </p:nvPicPr>
        <p:blipFill>
          <a:blip r:embed="rId1"/>
          <a:stretch/>
        </p:blipFill>
        <p:spPr>
          <a:xfrm>
            <a:off x="2819520" y="2133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8" descr="mann-frontal"/>
          <p:cNvPicPr/>
          <p:nvPr/>
        </p:nvPicPr>
        <p:blipFill>
          <a:blip r:embed="rId2"/>
          <a:stretch/>
        </p:blipFill>
        <p:spPr>
          <a:xfrm>
            <a:off x="4800600" y="41148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3"/>
          <p:cNvSpPr/>
          <p:nvPr/>
        </p:nvSpPr>
        <p:spPr>
          <a:xfrm>
            <a:off x="2819520" y="4114800"/>
            <a:ext cx="1828800" cy="1828800"/>
          </a:xfrm>
          <a:prstGeom prst="rect">
            <a:avLst/>
          </a:prstGeom>
          <a:solidFill>
            <a:srgbClr val="006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60" name="Picture 66" descr="typo-Alter-1-1"/>
          <p:cNvPicPr/>
          <p:nvPr/>
        </p:nvPicPr>
        <p:blipFill>
          <a:blip r:embed="rId3"/>
          <a:stretch/>
        </p:blipFill>
        <p:spPr>
          <a:xfrm>
            <a:off x="2819520" y="685800"/>
            <a:ext cx="380988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liennummernplatzhalter 3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0363-5759-4EB1-8644-A057B36B9FE3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04" name="Picture 5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9"/>
          <p:cNvSpPr/>
          <p:nvPr/>
        </p:nvSpPr>
        <p:spPr>
          <a:xfrm>
            <a:off x="1760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06" name="Textfeld 8"/>
          <p:cNvSpPr/>
          <p:nvPr/>
        </p:nvSpPr>
        <p:spPr>
          <a:xfrm>
            <a:off x="6000840" y="664380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50920" y="26398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000"/>
                </a:solidFill>
                <a:latin typeface="Arial"/>
              </a:rPr>
              <a:t>Übung: Grenzen setzen im Pflegealltag</a:t>
            </a: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liennummernplatzhalter 3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865F-4DBD-4884-9229-966221D3D40F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09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110" name="Textfeld 7"/>
          <p:cNvSpPr/>
          <p:nvPr/>
        </p:nvSpPr>
        <p:spPr>
          <a:xfrm>
            <a:off x="785880" y="1951200"/>
            <a:ext cx="7929360" cy="17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95040"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65656"/>
                </a:solidFill>
                <a:latin typeface="Arial"/>
              </a:rPr>
              <a:t>Baer, U./ Frick-Baer, G./ Alandt, G. (2014): Wenn alte Menschen aggressiv werden. Demenz und Gewalt – Rat für Angehörige und Pflegende. 2. Aufl. Beltz: Weinheim.</a:t>
            </a:r>
            <a:endParaRPr b="0" lang="en-US" sz="1100" spc="-1" strike="noStrike">
              <a:solidFill>
                <a:srgbClr val="565656"/>
              </a:solidFill>
              <a:latin typeface="Arial"/>
            </a:endParaRPr>
          </a:p>
          <a:p>
            <a:pPr marL="182520" indent="-95040"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65656"/>
                </a:solidFill>
                <a:latin typeface="Arial"/>
              </a:rPr>
              <a:t>Bellzett (2013): Praxisleitfaden. &gt;MädchenStärken&lt; - Gewaltprävention und Persönlichkeitsstärkung für Mädchen. 2. Auflage. Bielefeld </a:t>
            </a:r>
            <a:endParaRPr b="0" lang="en-US" sz="1100" spc="-1" strike="noStrike">
              <a:solidFill>
                <a:srgbClr val="565656"/>
              </a:solidFill>
              <a:latin typeface="Arial"/>
            </a:endParaRPr>
          </a:p>
          <a:p>
            <a:pPr marL="182520" indent="-95040"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65656"/>
                </a:solidFill>
                <a:latin typeface="Arial"/>
              </a:rPr>
              <a:t>Görgen, T.; Herbst, S.; Rabold, S. (2005): Kriminalitäts- und Gewaltgefährdungen im höheren Lebensalter und in der häuslichen Pflege, KFN: Hannover.</a:t>
            </a:r>
            <a:endParaRPr b="0" lang="en-US" sz="1100" spc="-1" strike="noStrike">
              <a:solidFill>
                <a:srgbClr val="565656"/>
              </a:solidFill>
              <a:latin typeface="Arial"/>
            </a:endParaRPr>
          </a:p>
          <a:p>
            <a:pPr marL="182520" indent="-95040"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65656"/>
                </a:solidFill>
                <a:latin typeface="Arial"/>
              </a:rPr>
              <a:t>Simon, M.;Tackenberg, P.; Hasselhorn, H.-M./ Kümmerling, A. et al. (2005): Auswertung der ersten Befragung der NEXT-Studie in Deutschland.  Universität Wuppertal. Verfügbar unter </a:t>
            </a:r>
            <a:r>
              <a:rPr b="0" lang="de-DE" sz="1100" spc="-1" strike="noStrike" u="sng">
                <a:solidFill>
                  <a:srgbClr val="565555"/>
                </a:solidFill>
                <a:uFillTx/>
                <a:latin typeface="Arial"/>
                <a:hlinkClick r:id="rId2"/>
              </a:rPr>
              <a:t>http://www.next.uni-wuppertal.de</a:t>
            </a:r>
            <a:r>
              <a:rPr b="0" lang="de-DE" sz="1100" spc="-1" strike="noStrike">
                <a:solidFill>
                  <a:srgbClr val="565656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565656"/>
              </a:solidFill>
              <a:latin typeface="Arial"/>
            </a:endParaRPr>
          </a:p>
          <a:p>
            <a:pPr marL="182520" indent="-95040"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65656"/>
                </a:solidFill>
                <a:latin typeface="Arial"/>
              </a:rPr>
              <a:t>Von Hirschberg, K.-R.; Kähler, B. (2009): Gewalt und Aggression in der Pflege Gewalt und Aggression in der Pflege. - Ein Kurzüberblick -  Berufsgenossenschaft für Gesundheitsdienst und Wohlfahrtspflege – BGW: Hamburg.</a:t>
            </a:r>
            <a:endParaRPr b="0" lang="en-US" sz="11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11" name="Textfeld 8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12" name="Textfeld 5"/>
          <p:cNvSpPr/>
          <p:nvPr/>
        </p:nvSpPr>
        <p:spPr>
          <a:xfrm>
            <a:off x="2643120" y="714240"/>
            <a:ext cx="39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65656"/>
                </a:solidFill>
                <a:latin typeface="Arial"/>
              </a:rPr>
              <a:t>Literatur</a:t>
            </a: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liennummernplatzhalter 3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7B25-4D70-487A-9EA9-E1720DF98507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62" name="Picture 13" descr="swpf-logo"/>
          <p:cNvPicPr/>
          <p:nvPr/>
        </p:nvPicPr>
        <p:blipFill>
          <a:blip r:embed="rId1"/>
          <a:stretch/>
        </p:blipFill>
        <p:spPr>
          <a:xfrm>
            <a:off x="228600" y="76320"/>
            <a:ext cx="685800" cy="550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05_NRW_MGEPA_CMYK_Fsrder_b"/>
          <p:cNvPicPr/>
          <p:nvPr/>
        </p:nvPicPr>
        <p:blipFill>
          <a:blip r:embed="rId2"/>
          <a:stretch/>
        </p:blipFill>
        <p:spPr>
          <a:xfrm>
            <a:off x="1219320" y="130320"/>
            <a:ext cx="1676160" cy="4791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5"/>
          <p:cNvSpPr/>
          <p:nvPr/>
        </p:nvSpPr>
        <p:spPr>
          <a:xfrm>
            <a:off x="250920" y="1327320"/>
            <a:ext cx="8424720" cy="29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679d"/>
                </a:solidFill>
                <a:latin typeface="Arial"/>
              </a:rPr>
              <a:t>Eigene Grenzen erkennen und setzen</a:t>
            </a: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65" name="Textfeld 8"/>
          <p:cNvSpPr/>
          <p:nvPr/>
        </p:nvSpPr>
        <p:spPr>
          <a:xfrm>
            <a:off x="6000840" y="664380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66" name="Picture 24" descr="WiWaLogo_4c"/>
          <p:cNvPicPr/>
          <p:nvPr/>
        </p:nvPicPr>
        <p:blipFill>
          <a:blip r:embed="rId3"/>
          <a:stretch/>
        </p:blipFill>
        <p:spPr>
          <a:xfrm>
            <a:off x="0" y="5400720"/>
            <a:ext cx="2556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liennummernplatzhalter 3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A630-1567-47AB-BF98-CEB6A47CF80C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68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1285920" y="78588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d5d5d"/>
                </a:solidFill>
                <a:latin typeface="Arial"/>
              </a:rPr>
              <a:t>Gliederung</a:t>
            </a: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785880" y="1995480"/>
            <a:ext cx="705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spcBef>
                <a:spcPts val="1125"/>
              </a:spcBef>
              <a:buClr>
                <a:srgbClr val="5656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65656"/>
                </a:solidFill>
                <a:latin typeface="Arial"/>
              </a:rPr>
              <a:t>Aggression gegenüber Pflegenden</a:t>
            </a:r>
            <a:endParaRPr b="0" lang="en-US" sz="1800" spc="-1" strike="noStrike">
              <a:solidFill>
                <a:srgbClr val="565656"/>
              </a:solidFill>
              <a:latin typeface="Arial"/>
            </a:endParaRPr>
          </a:p>
          <a:p>
            <a:pPr marL="361800" indent="-361800">
              <a:spcBef>
                <a:spcPts val="1125"/>
              </a:spcBef>
              <a:buClr>
                <a:srgbClr val="5656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65656"/>
                </a:solidFill>
                <a:latin typeface="Arial"/>
              </a:rPr>
              <a:t>Übungen zum Thema „Eigene Grenzen erkennen und setzen“</a:t>
            </a:r>
            <a:endParaRPr b="0" lang="en-US" sz="18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71" name="Textfeld 8"/>
          <p:cNvSpPr/>
          <p:nvPr/>
        </p:nvSpPr>
        <p:spPr>
          <a:xfrm>
            <a:off x="6000840" y="664380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liennummernplatzhalter 3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E96F-0F95-479E-B26F-76B431476E2F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73" name="Picture 5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74" name="Textfeld 8"/>
          <p:cNvSpPr/>
          <p:nvPr/>
        </p:nvSpPr>
        <p:spPr>
          <a:xfrm>
            <a:off x="6000840" y="664380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250920" y="263988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000"/>
                </a:solidFill>
                <a:latin typeface="Arial"/>
              </a:rPr>
              <a:t>Übung: Erfahrungen mit Grenzüberschreitungen</a:t>
            </a: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800280" y="1856880"/>
            <a:ext cx="77724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Pflegekräfte sind ‐ nach Sicherheitskräften ‐ die am meisten durch Gewalt bedrohte Berufsgruppe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69% der Professionellen in Alten- und Pflegeheimen berichten, dass sie sehr häufig mit aggressiven und/oder unfreundlichen Patienten konfrontiert sind 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Jede vierte (26%) Pflegekraft in Alten- oder Pflegeheimen sagt sogar, sie sei immer mit solchen Patienten konfrontiert 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77" name="Foliennummernplatzhalter 3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36E3-0222-4409-A586-23C7482AF108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78" name="Picture 5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79" name="Textfeld 6"/>
          <p:cNvSpPr/>
          <p:nvPr/>
        </p:nvSpPr>
        <p:spPr>
          <a:xfrm>
            <a:off x="1000080" y="77328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65656"/>
                </a:solidFill>
                <a:latin typeface="Arial"/>
              </a:rPr>
              <a:t>Aggressionen gegen Pflegende</a:t>
            </a: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80" name="Textfeld 8"/>
          <p:cNvSpPr/>
          <p:nvPr/>
        </p:nvSpPr>
        <p:spPr>
          <a:xfrm>
            <a:off x="6000840" y="664380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81" name="Textfeld 5"/>
          <p:cNvSpPr/>
          <p:nvPr/>
        </p:nvSpPr>
        <p:spPr>
          <a:xfrm>
            <a:off x="2714760" y="6091200"/>
            <a:ext cx="618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65656"/>
                </a:solidFill>
                <a:latin typeface="Arial"/>
                <a:ea typeface="ヒラギノ角ゴ Pro W3"/>
              </a:rPr>
              <a:t>Simon, M. et al. (2005) </a:t>
            </a:r>
            <a:endParaRPr b="0" lang="en-US" sz="8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85800" y="150012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Erfahrungen in den letzten 12 Monaten: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65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45% beleidigt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65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44% beschimpft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65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16,5% sexuell belästigt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65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16,5% grob angefasst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65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14,2% gekratzt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65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12% gestoß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65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7,1% gespuckt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65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6,4% mit Faust geschlag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83" name="Foliennummernplatzhalter 3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707D-B8D6-491F-A7FC-312A3CED1368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84" name="Picture 5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85" name="Textfeld 6"/>
          <p:cNvSpPr/>
          <p:nvPr/>
        </p:nvSpPr>
        <p:spPr>
          <a:xfrm>
            <a:off x="1000080" y="77328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65656"/>
                </a:solidFill>
                <a:latin typeface="Arial"/>
              </a:rPr>
              <a:t>Pflegekräftebefragung 2005</a:t>
            </a: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86" name="Textfeld 8"/>
          <p:cNvSpPr/>
          <p:nvPr/>
        </p:nvSpPr>
        <p:spPr>
          <a:xfrm>
            <a:off x="6000840" y="664380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87" name="Textfeld 5"/>
          <p:cNvSpPr/>
          <p:nvPr/>
        </p:nvSpPr>
        <p:spPr>
          <a:xfrm>
            <a:off x="2714760" y="6091200"/>
            <a:ext cx="618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65656"/>
                </a:solidFill>
                <a:latin typeface="Arial"/>
                <a:ea typeface="ヒラギノ角ゴ Pro W3"/>
              </a:rPr>
              <a:t>Görgen, T. et al. (2005)</a:t>
            </a:r>
            <a:endParaRPr b="0" lang="en-US" sz="8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85800" y="150012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Krankheitsbedingte Verhaltensänderung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Fehlende Lebensqualität, Unzufriedenheit, Hadern mit dem eigenen Schicksal 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Starke Abhängigkeit und fehlende Selbstbestimmung 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Hilflosigkeit, Angst, Verzweiflung 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Freiheitsentzug 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Medikamente 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Milieu, z.B. Reizüberflutung, Unruhe, etc.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Zurückliegende traumatische Erfahrungen 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Altersunabhängiges Gewaltpotential: altgewordene Täter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3650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  <a:p>
            <a:pPr lvl="1" marL="3650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  <a:p>
            <a:pPr lvl="1" marL="3650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  <a:p>
            <a:pPr lvl="1" marL="3650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  <a:p>
            <a:pPr lvl="1" marL="3650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89" name="Foliennummernplatzhalter 3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7E54-E356-4EC2-A7F7-B5B04768C524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90" name="Picture 5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91" name="Textfeld 6"/>
          <p:cNvSpPr/>
          <p:nvPr/>
        </p:nvSpPr>
        <p:spPr>
          <a:xfrm>
            <a:off x="1000080" y="77328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65656"/>
                </a:solidFill>
                <a:latin typeface="Arial"/>
              </a:rPr>
              <a:t>Mögliche Ursachen</a:t>
            </a: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92" name="Textfeld 8"/>
          <p:cNvSpPr/>
          <p:nvPr/>
        </p:nvSpPr>
        <p:spPr>
          <a:xfrm>
            <a:off x="6000840" y="664380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93" name="Textfeld 5"/>
          <p:cNvSpPr/>
          <p:nvPr/>
        </p:nvSpPr>
        <p:spPr>
          <a:xfrm>
            <a:off x="2714760" y="6091200"/>
            <a:ext cx="618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65656"/>
                </a:solidFill>
                <a:latin typeface="Arial"/>
                <a:ea typeface="ヒラギノ角ゴ Pro W3"/>
              </a:rPr>
              <a:t>Von Hirschberg, R.-R.; Kähler, B. (2009)</a:t>
            </a:r>
            <a:endParaRPr b="0" lang="en-US" sz="8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liennummernplatzhalter 3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EF9A6-1090-4B6A-8034-A998C8607785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95" name="Picture 5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96" name="Textfeld 8"/>
          <p:cNvSpPr/>
          <p:nvPr/>
        </p:nvSpPr>
        <p:spPr>
          <a:xfrm>
            <a:off x="6000840" y="664380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50920" y="263988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000"/>
                </a:solidFill>
                <a:latin typeface="Arial"/>
              </a:rPr>
              <a:t>Übung: Umgang mit Grenzüberschreitungen</a:t>
            </a: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liennummernplatzhalter 3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F4C8-8804-48EF-946F-DC1714524B5F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99" name="Picture 5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9"/>
          <p:cNvSpPr/>
          <p:nvPr/>
        </p:nvSpPr>
        <p:spPr>
          <a:xfrm>
            <a:off x="1760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01" name="Textfeld 8"/>
          <p:cNvSpPr/>
          <p:nvPr/>
        </p:nvSpPr>
        <p:spPr>
          <a:xfrm>
            <a:off x="6000840" y="664380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50920" y="26398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000"/>
                </a:solidFill>
                <a:latin typeface="Arial"/>
              </a:rPr>
              <a:t>Übung: Grenzen erkennen und setzen</a:t>
            </a: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15:18:52Z</dcterms:created>
  <dc:creator>Anja Richter</dc:creator>
  <dc:description/>
  <dc:language>en-US</dc:language>
  <cp:lastModifiedBy>Wilwasser</cp:lastModifiedBy>
  <dcterms:modified xsi:type="dcterms:W3CDTF">2016-05-17T07:12:19Z</dcterms:modified>
  <cp:revision>232</cp:revision>
  <dc:subject/>
  <dc:title>PowerPoint-Präsentation</dc:title>
</cp:coreProperties>
</file>